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AA7-B644-4AC1-B53C-A3E7CB84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ED2-E2B0-40C1-8325-D85E925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0CF-6817-4F2C-881A-FB1412B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C2E-6B31-408D-ADAE-C62889D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C63-24C5-469F-97DA-060D395D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E64-8166-4B5B-B39D-4AC0CD2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78E-9375-46DB-994C-A0C685F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145-B164-4966-BF1A-2311054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B00-99AC-4E0A-ACC8-CF8B76D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9CC-A097-467E-8F0B-B9265EB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9CA-B579-49E1-81AC-BE7330E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49A-55F3-494B-AEB4-72AC6C1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578-0EE6-44B9-A207-FEB5978EF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40:13Z</dcterms:created>
  <dc:creator> </dc:creator>
  <dc:description/>
  <dc:language>en-US</dc:language>
  <cp:lastModifiedBy> </cp:lastModifiedBy>
  <dcterms:modified xsi:type="dcterms:W3CDTF">2008-11-19T15:40:24Z</dcterms:modified>
  <cp:revision>1</cp:revision>
  <dc:subject/>
  <dc:title>Slide 1</dc:title>
</cp:coreProperties>
</file>